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89253"/>
        <c:axId val="1117527"/>
      </c:barChart>
      <c:catAx>
        <c:axId val="78689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7527"/>
        <c:crosses val="autoZero"/>
        <c:auto val="1"/>
        <c:lblAlgn val="ctr"/>
        <c:lblOffset val="100"/>
        <c:noMultiLvlLbl val="0"/>
      </c:catAx>
      <c:valAx>
        <c:axId val="11175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89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088B-67C5-40A3-92DE-545E0A4B2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C403-1244-4558-BDF8-57D068E8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B6B6-5D6D-4F04-B650-F485BA96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4803-39D0-48C4-9615-51FDB8D3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3E4-F9D7-4C9D-BE22-C5197AC0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63E8-27BD-4E5E-9732-F7F3BA46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5658-85B7-452E-948C-92023D10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AE4A-AC3F-467B-9932-195DF90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6730-DD86-4012-935B-09A4E21F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954-9C62-4AE3-B073-52CA8D81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0F1C-4FE6-4891-992D-E4C290B9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1B9-0BD5-4AFC-ACF9-5646A29A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61B38-5F73-4814-B310-FC8AA7221A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