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08654"/>
        <c:axId val="41130349"/>
      </c:barChart>
      <c:catAx>
        <c:axId val="40086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130349"/>
        <c:crosses val="autoZero"/>
        <c:auto val="1"/>
        <c:lblAlgn val="ctr"/>
        <c:lblOffset val="100"/>
        <c:noMultiLvlLbl val="0"/>
      </c:catAx>
      <c:valAx>
        <c:axId val="411303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086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BA87-EE21-4351-9EE2-1D3E55A14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9045-F5CB-4B82-A987-271AC9FE8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D46F-5BF9-43CF-AC26-118730F1A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23B9-0B60-448C-BE56-8E7CC0703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1100-77F2-4D7F-8A61-81F45B1AB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AE97-1A1C-4AC4-80F4-153630B2C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111E-079F-4A9B-9D7D-4EBFC24DE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5F04-E568-4427-B4F5-CFEC5BC5A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750B-DCD9-48ED-8941-2EB7B009F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D2E1-509C-4696-AD0F-6733CA6D6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7E1B-03B7-4385-B282-446C431E3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83AE-4990-4333-9EB4-E8EF4BC3D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C57035-E51E-4CB3-A154-1ADBB343565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