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12585"/>
        <c:axId val="25023798"/>
      </c:barChart>
      <c:catAx>
        <c:axId val="28712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23798"/>
        <c:crosses val="autoZero"/>
        <c:auto val="1"/>
        <c:lblAlgn val="ctr"/>
        <c:lblOffset val="100"/>
        <c:noMultiLvlLbl val="0"/>
      </c:catAx>
      <c:valAx>
        <c:axId val="25023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12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7C2-FBE3-48C1-8C6A-761A91D5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876-9779-4849-A38D-9C1A84C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3D4-7B76-4C49-93EE-B9484013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B10-C8C2-4FED-99F5-D0E9CB4C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0C7-9A9E-4BA9-8B18-659DC835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617-B40A-4B33-A5F7-7378D09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B1A-E8E3-43C0-9D36-32EDB133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0EE-0C15-4D69-8B6E-747DB25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C18-8C24-406C-85A9-6FCA313E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E72-82BE-4C73-855C-A36D238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39E-9BA6-4CCF-B77F-773C03B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337-74DA-48D7-9B7C-28BAFC2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6DD35-745E-479D-8983-84441B5BB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