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13234"/>
        <c:axId val="83324888"/>
      </c:barChart>
      <c:catAx>
        <c:axId val="50113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24888"/>
        <c:crosses val="autoZero"/>
        <c:auto val="1"/>
        <c:lblAlgn val="ctr"/>
        <c:lblOffset val="100"/>
        <c:noMultiLvlLbl val="0"/>
      </c:catAx>
      <c:valAx>
        <c:axId val="83324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13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234-A6A0-497E-BE96-89618B23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EDB-6415-42EC-9B99-2909A6DF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F57-CB72-49E5-9C2A-476D5F7D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852-8878-4D26-8D1D-AFC382F4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F1E-7474-4B5D-9564-3C3052E7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905-EEC4-4AEB-8102-8C170C9D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F84-0CB9-48C4-BF30-681220A9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6AD-73B5-4E7C-96CC-BE4E419D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99E-DE2E-4034-90F0-1A6290E9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6F5-5F3A-42F9-BBD5-7949B6FD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5C0-507A-49B8-BC62-1CECE1D7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294-AB8E-4D62-887C-63762366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96ABA-8010-48E0-BE92-E31C869D80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