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02415"/>
        <c:axId val="67206337"/>
      </c:barChart>
      <c:catAx>
        <c:axId val="49102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06337"/>
        <c:crosses val="autoZero"/>
        <c:auto val="1"/>
        <c:lblAlgn val="ctr"/>
        <c:lblOffset val="100"/>
        <c:noMultiLvlLbl val="0"/>
      </c:catAx>
      <c:valAx>
        <c:axId val="67206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02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E18-2E3F-4ADC-A8A2-04E6F535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EF5-7C2B-4638-958A-3BA73C6E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572-1433-4EDF-A20A-57781051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55C-EF67-427D-857C-D36F2EC2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769-EE93-4F49-AC5A-9450B659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330-C434-4E20-8BBC-1F0A27E8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B09-8D24-4E7D-B233-8114849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780-3D3E-45EE-9D99-8E5DCF50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9A8-D612-45A7-99E2-91C6E4D7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E96-9E90-4DDD-8866-765543D0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D6E-754C-4449-B2D3-5DD4E522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F81-B598-44E6-8A99-3A07142B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1B2EB-327A-4030-98B1-7151F20BE2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