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858083"/>
        <c:axId val="97636485"/>
      </c:barChart>
      <c:catAx>
        <c:axId val="508580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36485"/>
        <c:crosses val="autoZero"/>
        <c:auto val="1"/>
        <c:lblAlgn val="ctr"/>
        <c:lblOffset val="100"/>
        <c:noMultiLvlLbl val="0"/>
      </c:catAx>
      <c:valAx>
        <c:axId val="976364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580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BA06-0A97-483D-BF94-8866E1C71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DAB8-8B59-4A57-AF60-FCFD56E2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1FE7-4C2D-47CD-8FA1-6A9AD3E91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C547-B2B0-441B-A668-A4375417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3842-0864-47BF-811A-F7E957B6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779C-1D65-4053-934E-F4A36239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071A-E752-44D5-89B6-A9EF8E9F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2C87-21FF-40DF-A995-3AF9BCA0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8A97-F172-4E9B-8F9A-86C5DB5F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881D-B2AE-4008-9998-A33F50D5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2DE2-1922-4F9C-8584-03D07A16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D5C0-A7E4-4CBA-BEDD-9686DDC1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46C59-CAB5-4D41-AE61-EB2AB320E1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