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34798"/>
        <c:axId val="58617083"/>
      </c:barChart>
      <c:catAx>
        <c:axId val="48334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17083"/>
        <c:crosses val="autoZero"/>
        <c:auto val="1"/>
        <c:lblAlgn val="ctr"/>
        <c:lblOffset val="100"/>
        <c:noMultiLvlLbl val="0"/>
      </c:catAx>
      <c:valAx>
        <c:axId val="58617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34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943-9760-4EF3-A19F-DFA92038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9CB-9234-42F9-9B7B-AE4A0DB5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808-1C1C-4DBC-B960-D8FB94BA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E69-E167-4242-86AF-52EC51E3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566-81D2-4E57-B6C9-1307AFC4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DA2-21CB-4D74-B73C-8A697C94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789-F000-469D-A094-E21866BD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554-C830-49AF-8B12-47947261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640-E63B-4723-89BE-0486A260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469-5220-4DDA-84E0-8D099FAA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65B-AAC7-4A4C-980D-6EB8CBD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33B-F742-498D-9783-72B98FFE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1A88E-33F2-473E-A90B-CD4340D65C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