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53782"/>
        <c:axId val="85098428"/>
      </c:barChart>
      <c:catAx>
        <c:axId val="85453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8428"/>
        <c:crosses val="autoZero"/>
        <c:auto val="1"/>
        <c:lblAlgn val="ctr"/>
        <c:lblOffset val="100"/>
        <c:noMultiLvlLbl val="0"/>
      </c:catAx>
      <c:valAx>
        <c:axId val="85098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53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E93-B71D-49D3-A9E0-24CAFEDB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46C-2814-4751-8574-7910CCD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D15-8875-47CF-9159-77A033DD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E88-1625-4117-9BD7-78537261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474-BFE2-4432-BC9F-CD2D7A5F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ADD-6136-4A7A-A3D0-A74D06C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965-7A50-4FB4-B56C-56AE0A01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0EB-9C6C-4FA9-8C79-6C62CC87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B77-F37C-4F4F-B871-EA7A84F3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868-4365-4F13-BAF7-F202C1C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636-C958-4B68-9136-0502BE7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E08-4B6F-4063-89EF-3C8AEB6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57972-DAEF-43A8-8C9C-07AEE543DB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