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6491"/>
        <c:axId val="5337204"/>
      </c:barChart>
      <c:catAx>
        <c:axId val="8236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7204"/>
        <c:crosses val="autoZero"/>
        <c:auto val="1"/>
        <c:lblAlgn val="ctr"/>
        <c:lblOffset val="100"/>
        <c:noMultiLvlLbl val="0"/>
      </c:catAx>
      <c:valAx>
        <c:axId val="5337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05E-BFB2-4135-BBE1-9FAF6321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363-D1AD-4189-891A-DD7094C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744-FA9D-4902-BEC2-29FA9AF9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48F-E443-4F4E-BE5D-075CD833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0FC-A2C5-496E-BC4B-50CC625A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93E-3D55-4B96-AE67-E0AA291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C82-7392-428B-93E1-DC8923CD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89A-FAD4-4BB0-9A52-EC459CA7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DBC-437C-499E-9A76-9C3E3CB4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90C-E2B2-40CE-8456-F12215E6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596-BE3D-454E-9A5D-C78CD86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50B-28A5-412F-AE9B-CB10EF4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6C0F2-3E85-4D71-B2B6-8E26D79C08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