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10549"/>
        <c:axId val="20356772"/>
      </c:barChart>
      <c:catAx>
        <c:axId val="82210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56772"/>
        <c:crosses val="autoZero"/>
        <c:auto val="1"/>
        <c:lblAlgn val="ctr"/>
        <c:lblOffset val="100"/>
        <c:noMultiLvlLbl val="0"/>
      </c:catAx>
      <c:valAx>
        <c:axId val="20356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10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F89-727B-422F-966A-347BD138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ED8-5AB6-4F15-869D-1DA5090A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309-10CD-4CAA-962E-C56B7BD2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8B1-46A9-47C0-9765-12C4194E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2A8-EF15-4339-9364-231E9596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696-C15C-49DF-A7CF-6A745FCD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7D4-04FB-4222-8076-21F1649D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96A-EBAB-46AC-90A1-5DF9D41B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079-B635-401B-B637-27EA24F5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B24-96B7-465E-9D9F-25F96FCF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55B-DD4C-44E9-944D-A1FC5F44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305-6785-40B9-9DC0-815D5131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4E77D-F52F-4816-9952-2AEC8EE4D1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