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89892"/>
        <c:axId val="6365258"/>
      </c:barChart>
      <c:catAx>
        <c:axId val="59889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258"/>
        <c:crosses val="autoZero"/>
        <c:auto val="1"/>
        <c:lblAlgn val="ctr"/>
        <c:lblOffset val="100"/>
        <c:noMultiLvlLbl val="0"/>
      </c:catAx>
      <c:valAx>
        <c:axId val="6365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9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ED8-7C82-43F2-A608-E09B8397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763-EFF0-41BF-81D3-CA79890A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0AE-50CC-462D-984D-C389B606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1AB-3661-458F-AC30-E46E5C7A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E99-6F55-418B-AA3E-7C2A361A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957-9C02-459A-B0FB-4F43D263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F4A-FC39-499B-80CF-0015F72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1C3-7021-4660-B51D-2CBC643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654-6E8B-4C30-86DE-47A4AA5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D1F-5ECB-43AC-85E9-24223DC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DC4-9C74-4645-95D6-BD4F4C5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B68-6CEB-4F57-A57E-59A9AE5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529C-49C2-4296-9448-3A6E95656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