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41690"/>
        <c:axId val="98762477"/>
      </c:barChart>
      <c:catAx>
        <c:axId val="95941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62477"/>
        <c:crosses val="autoZero"/>
        <c:auto val="1"/>
        <c:lblAlgn val="ctr"/>
        <c:lblOffset val="100"/>
        <c:noMultiLvlLbl val="0"/>
      </c:catAx>
      <c:valAx>
        <c:axId val="98762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1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8D9-299D-4AEE-8A18-E50F5FBB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116-BED3-4535-8A14-0A8AE72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C7D-4A6E-4439-8EDA-27A6FF45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D06-6B3D-453F-981D-1CD8AFFF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772-8795-4E5C-8A07-D73FD3F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4AB-BC21-4141-8748-FD092F7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D53-0FFD-439F-B7FB-13E51C3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100-5820-4516-AEAE-2C949488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F8F-4C4E-4CCA-B0B8-C2F750FE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860-C692-42E5-8E51-4760F94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36C-6E90-4C9F-8DD0-11F4F9E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AD1-7FA2-4DFA-8FB3-84F4CAC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E5CC7-8801-40C1-BD34-FC136AD281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