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03555"/>
        <c:axId val="72069947"/>
      </c:barChart>
      <c:catAx>
        <c:axId val="43903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69947"/>
        <c:crosses val="autoZero"/>
        <c:auto val="1"/>
        <c:lblAlgn val="ctr"/>
        <c:lblOffset val="100"/>
        <c:noMultiLvlLbl val="0"/>
      </c:catAx>
      <c:valAx>
        <c:axId val="72069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03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2C6-113F-4E43-BF4D-0617DF53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73C-E110-4424-90B1-9D6F766B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9EE-ED65-4070-AFEF-AE03DDB3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478-BBD9-4453-A143-35FB76D1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1D1-5CEF-43B7-A992-F6781E90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DDF-451E-4A63-80A9-00554BD4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5AD-5665-4CAF-825B-EC1CBCD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E0D-1E74-4B5F-859B-5C0301E0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8AF-FC1E-49AC-94EE-EF247D03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EDF-3EC1-4FDC-90B7-25C08F94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613-E0E8-44ED-B891-83DCB1D1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4E1-37D0-42E5-9022-FB59D994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84857-ACE2-4D28-AC28-D0FC5D5753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