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284998"/>
        <c:axId val="84406745"/>
      </c:barChart>
      <c:catAx>
        <c:axId val="182849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406745"/>
        <c:crosses val="autoZero"/>
        <c:auto val="1"/>
        <c:lblAlgn val="ctr"/>
        <c:lblOffset val="100"/>
        <c:noMultiLvlLbl val="0"/>
      </c:catAx>
      <c:valAx>
        <c:axId val="844067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2849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8DE1-A8EE-4D6C-B07C-DCE706A41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9564-ABFE-4DAE-95AC-E2F97FC9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A58A-CAA6-4222-AC46-3029E583C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B9CB-D581-40D9-A3F7-CA8EFE0FD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5E6D-5C8F-4A8C-AAD4-5CD0D35E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4481-9610-40F9-8ED7-70A3DD70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D495-031C-48C0-ADF9-3FEA5A97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04F8-E6BD-4051-B16A-A497F82D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8BE7-1D4C-4271-B54B-77B323B4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C48D-13F5-42CC-B80F-F4A0FC90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11E7-93CA-4EAF-8315-EC0F88E2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A008-07EF-48DA-AA0C-16AE7AA9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2074FA-526E-431A-B133-3313C0664E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