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432594"/>
        <c:axId val="18021878"/>
      </c:barChart>
      <c:catAx>
        <c:axId val="694325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21878"/>
        <c:crosses val="autoZero"/>
        <c:auto val="1"/>
        <c:lblAlgn val="ctr"/>
        <c:lblOffset val="100"/>
        <c:noMultiLvlLbl val="0"/>
      </c:catAx>
      <c:valAx>
        <c:axId val="180218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325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FA5B-B3FF-4D29-AB5D-802D81AE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8968-86B1-430B-A681-69F154F5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5886-8318-4936-8BA7-4A4DFA072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1D46-3910-48BA-8735-9A4589EFF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896B-4E03-46F4-8FF7-0D1C8151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AC54-F617-4D0C-BF02-519C0DD7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18B2-ACC2-450D-A19E-A8EF7696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0D41-236B-450D-A210-2F4FDC1F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DBC0-3C0B-4582-B286-5491E5C3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0547-9196-45D6-A795-DE02B2D5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A86E-F246-4C2B-B5EF-0E3B51F8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3B05-4EAE-4F37-A641-41C859C3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A7600-8A57-4A57-8170-E4199B2D55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