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84380"/>
        <c:axId val="93355504"/>
      </c:barChart>
      <c:catAx>
        <c:axId val="60584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55504"/>
        <c:crosses val="autoZero"/>
        <c:auto val="1"/>
        <c:lblAlgn val="ctr"/>
        <c:lblOffset val="100"/>
        <c:noMultiLvlLbl val="0"/>
      </c:catAx>
      <c:valAx>
        <c:axId val="93355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84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3301-F647-4E21-9EEA-0756A61F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BB2-BD65-4D84-BCEE-2348E723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ABC-4429-4DB0-A47E-B5D9618E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7F9-6F87-45F8-A0D7-71AFD618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C7F-278D-483B-B49B-7497ECBD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9DD-36FA-4E0D-96C7-A64D8901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144-4959-4378-9029-66ED31DC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C92-2BD8-4751-9D14-959C2CB9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608-45C4-4369-85B4-0931A224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AAE-4896-4FA7-9B82-7700DC62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261-C6FF-4C17-802E-B4FA7F71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ECC-FC35-41B5-ADD8-116AF982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CC93F-0A6E-4723-AC12-43A3898E18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