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9610"/>
        <c:axId val="52977501"/>
      </c:barChart>
      <c:catAx>
        <c:axId val="98589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77501"/>
        <c:crosses val="autoZero"/>
        <c:auto val="1"/>
        <c:lblAlgn val="ctr"/>
        <c:lblOffset val="100"/>
        <c:noMultiLvlLbl val="0"/>
      </c:catAx>
      <c:valAx>
        <c:axId val="52977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9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7EA-DD28-44E8-8D11-2162E173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C66-BD96-4178-BABA-7A6CA23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E94-FB7C-4B39-BFB6-6A03C509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411-068A-4FB4-ABE4-4A06EC9D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357-FD82-4680-8E7B-B24975F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774-4931-4639-B58E-DA52F03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D3F-032F-4813-A896-48793DB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F7A-2E0F-4D7E-A2EE-D02113B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02E-F8AF-4D1B-8DB1-CBA9FF1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CBB-2850-474F-90BA-6791AF8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FC0-D970-411B-8F3C-486D235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7D7-F815-4AD0-91F1-AF6CC25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15AA-CA87-4C2A-91F0-4006EB63DC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