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432497"/>
        <c:axId val="64824328"/>
      </c:barChart>
      <c:catAx>
        <c:axId val="684324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24328"/>
        <c:crosses val="autoZero"/>
        <c:auto val="1"/>
        <c:lblAlgn val="ctr"/>
        <c:lblOffset val="100"/>
        <c:noMultiLvlLbl val="0"/>
      </c:catAx>
      <c:valAx>
        <c:axId val="648243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324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71B3-F119-4443-9FF8-57DED2D7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9ED9-B8C6-4062-A0AA-F594423F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BC4A-977A-4603-AE27-8FB920F38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0411-255B-45EA-A2D3-8A870B09C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BD38-93EA-469D-AA47-21885A0E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A5B8-D53F-435F-B512-5BF3B927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246C-65E7-4197-8972-C4BA88EC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B53B-04DB-474A-86E3-44889548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781D-75B8-4937-BCC1-083766D7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6320-E486-4E77-B795-54E0BD74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DC86-4025-464C-9ACB-FD29C746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010D-3B54-4D9D-885A-AB534F32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1CD3F-B572-4D0F-A240-9985DA11E6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