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586552"/>
        <c:axId val="28279712"/>
      </c:barChart>
      <c:catAx>
        <c:axId val="14586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79712"/>
        <c:crosses val="autoZero"/>
        <c:auto val="1"/>
        <c:lblAlgn val="ctr"/>
        <c:lblOffset val="100"/>
        <c:noMultiLvlLbl val="0"/>
      </c:catAx>
      <c:valAx>
        <c:axId val="282797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86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C8F8-24FC-4A8F-91A3-4237D02B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E87A-B8DC-4FE3-99A2-0336BD1B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632-4BD2-4E8C-9647-1CD4DDBD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D90-B00B-4430-83A8-5C70063F7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F689-2EB2-45D0-97F8-BFB8325D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EBE-383D-474C-AB1F-2F2E9772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E216-1F1E-4276-BC0D-7A4C5806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A88-37C3-4610-838A-E4E5E76D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3754-5BE9-48AF-BF4C-EBB17769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D3DD-F711-49DA-B047-B6842E65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DCAA-599D-4727-A328-FB20386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447-9EBE-4868-AF16-296D51DA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352D7-E8F6-4C99-BADF-C98F5EBFA5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