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3412"/>
        <c:axId val="90563865"/>
      </c:barChart>
      <c:catAx>
        <c:axId val="4634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563865"/>
        <c:crosses val="autoZero"/>
        <c:auto val="1"/>
        <c:lblAlgn val="ctr"/>
        <c:lblOffset val="100"/>
        <c:noMultiLvlLbl val="0"/>
      </c:catAx>
      <c:valAx>
        <c:axId val="905638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34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9722-0AB6-4713-A98A-259E1F7E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6058-DF6D-4F5F-A88A-AAE95E36F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4B39-725B-486A-913B-4FA89C5B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27D1-59F6-438F-B811-DEB5853E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AE05-79C8-4E72-8BB5-F20C9249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DC2-975F-4C37-8883-A811ACA7D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800F-0BAD-4552-9B4A-8FA8586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73E0-ED7C-4FF0-BBC8-A06C371D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4BAA-FF80-4E7A-B7CC-DF747C722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C97C-C6E8-4D85-BA09-B09E83786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5FA2-97CE-4022-A770-3C9B2818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A07C-C979-4D77-8B83-1F169689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5FE935-68B6-46F5-AF41-A636180E6D3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