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2718864"/>
        <c:axId val="79297230"/>
      </c:barChart>
      <c:catAx>
        <c:axId val="4271886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297230"/>
        <c:crosses val="autoZero"/>
        <c:auto val="1"/>
        <c:lblAlgn val="ctr"/>
        <c:lblOffset val="100"/>
        <c:noMultiLvlLbl val="0"/>
      </c:catAx>
      <c:valAx>
        <c:axId val="7929723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71886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693E-EB14-4311-A5C8-59128136E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B169-AD38-4946-8916-D4459B250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723D-9976-47B5-A986-FF02955E2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D834-FD4E-4789-963E-B1FA2E99E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770E-0BC0-4A03-9A18-6F9655EA3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0DDC-B531-4173-AD87-533E37E4D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723E-C71D-4E4C-9E87-3B9B9DC7F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56EB-8DA7-4133-86C9-FAE063059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1DD5-8D33-4C46-B4F0-392522A90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61A4-F55A-4B67-B087-D77B1E3E2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ACCD-4A7D-4691-9D53-FFA147F51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0EE1-5249-4C6A-8D25-59FE30836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3B9605-E6E8-4F69-A4E5-A12749A50CF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