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281831"/>
        <c:axId val="73205171"/>
      </c:barChart>
      <c:catAx>
        <c:axId val="252818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05171"/>
        <c:crosses val="autoZero"/>
        <c:auto val="1"/>
        <c:lblAlgn val="ctr"/>
        <c:lblOffset val="100"/>
        <c:noMultiLvlLbl val="0"/>
      </c:catAx>
      <c:valAx>
        <c:axId val="732051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818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C2CB-8F45-4204-8491-6CF6D320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C918-2E39-45E2-A7E6-7EC60705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9780-6AB0-4699-AB53-BA09D6C0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7F6-9282-4E10-ACFC-68BC12DA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0DD8-5593-4CFF-956A-38B279CF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CD25-D5A2-4E12-B11C-BC71A44B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803-60F5-4E47-8368-2537A30C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DA14-8F98-4E02-8C2A-054BFA22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A6F3-E339-4097-AB1F-D8CBFF90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0C1-FAC9-49FF-B017-32932003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4CA-B252-4E51-928E-09C2AC81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9D6-130F-4E3B-BEC1-3BF8EDBC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7645C-8A66-4119-A3D2-6EE1E31A37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