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88909"/>
        <c:axId val="64433160"/>
      </c:barChart>
      <c:catAx>
        <c:axId val="56688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3160"/>
        <c:crosses val="autoZero"/>
        <c:auto val="1"/>
        <c:lblAlgn val="ctr"/>
        <c:lblOffset val="100"/>
        <c:noMultiLvlLbl val="0"/>
      </c:catAx>
      <c:valAx>
        <c:axId val="64433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88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C12-0962-42E3-9F32-59F5A09A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E95-C059-4743-8C8E-A0BCD28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947-C39D-40E9-B302-1F738B27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44A-8A6C-44F2-9C58-0EF9FA20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2F8-1C0B-4CED-BAA9-7BAC52C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2BC-357C-46CC-A7C2-67B90EBE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A55-A211-4E56-AD1E-0BB56C5E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E30-E906-4B31-84A3-A02B6FE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0FA-EEE5-4319-9E18-BC4864A2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AF0-5208-4B42-BBA5-7CD4ACA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428-8835-4F63-9CAE-7CEF436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94E-84C6-43DD-B33D-8657168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4D551-5CC8-44B2-B822-DEC35290D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