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46006"/>
        <c:axId val="21318403"/>
      </c:barChart>
      <c:catAx>
        <c:axId val="63746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18403"/>
        <c:crosses val="autoZero"/>
        <c:auto val="1"/>
        <c:lblAlgn val="ctr"/>
        <c:lblOffset val="100"/>
        <c:noMultiLvlLbl val="0"/>
      </c:catAx>
      <c:valAx>
        <c:axId val="21318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46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DA2-A1EE-4C74-9E29-476527FB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AA4-440C-4BDB-A64A-6099B72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3E9-4390-4B16-AE11-4B011EF3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738-019E-4901-87AE-BEA699EC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EA3-1873-4619-8BCB-957DE9C0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954-75C1-491C-8D5D-3F6A939D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8AF-6FE7-4988-AA8E-0438F43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907-F526-4AE8-BC83-ACCB7D6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810-435F-4053-96B8-DD131F4B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2F3-EC16-4C45-9BA7-EA40A904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3C-2F18-4BDC-AD4D-3B9A984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1B7B-D318-4892-8714-05634B6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7F3DA-9C68-475F-A35D-18D7B2873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