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67637"/>
        <c:axId val="13793608"/>
      </c:barChart>
      <c:catAx>
        <c:axId val="48867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93608"/>
        <c:crosses val="autoZero"/>
        <c:auto val="1"/>
        <c:lblAlgn val="ctr"/>
        <c:lblOffset val="100"/>
        <c:noMultiLvlLbl val="0"/>
      </c:catAx>
      <c:valAx>
        <c:axId val="137936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67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5A4-88FA-42E0-B242-3E8A225A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4338-200D-455D-BB14-95F043B4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8C6-C18A-4E5D-A588-941C77B9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713-7708-40CF-AB2B-A99F4627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47E-69AF-426C-B0D6-7F700D87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6D0-5C93-4B7D-8D0E-481F13FB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F12-FCDF-4B84-B59B-42F10E11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D3F-4B82-48E5-A60A-482A4E00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CD6E-4F76-455D-9BEC-DBE67F73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191D-59BA-4002-B74F-577A1094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6758-2955-4BE0-8198-8ABCF225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81D-55D1-46D5-A089-9EF48377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951ED-B4C6-47AC-A8AA-8553F88218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