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040877"/>
        <c:axId val="81471155"/>
      </c:barChart>
      <c:catAx>
        <c:axId val="970408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471155"/>
        <c:crosses val="autoZero"/>
        <c:auto val="1"/>
        <c:lblAlgn val="ctr"/>
        <c:lblOffset val="100"/>
        <c:noMultiLvlLbl val="0"/>
      </c:catAx>
      <c:valAx>
        <c:axId val="814711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0408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9254-776F-4FE8-BD09-9220695E1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0551-561F-45D5-9521-9842C7BE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2DC1-FC24-46D7-ABFF-CCC60BD19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4731-A2CD-4B17-BE03-FA4C80F14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D77B-A14D-476D-B8D7-D081543A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633F-CCFF-4C71-BE00-E31357C9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53B6-D721-459C-AB7D-E0AA5E0E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6CB2-F7F4-458B-A373-6D8356C2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C832-1C2A-4D4A-8426-FFC793CB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2482-B924-4BCB-A4A9-8C03E158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9F57-8911-43F3-AE7F-6436809C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F5EB-335F-49AA-A0B9-F3957490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1E275-1750-4DCC-AA7E-8FDEF36E0E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