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45008"/>
        <c:axId val="6814719"/>
      </c:barChart>
      <c:catAx>
        <c:axId val="14045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4719"/>
        <c:crosses val="autoZero"/>
        <c:auto val="1"/>
        <c:lblAlgn val="ctr"/>
        <c:lblOffset val="100"/>
        <c:noMultiLvlLbl val="0"/>
      </c:catAx>
      <c:valAx>
        <c:axId val="6814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45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58D-D191-4E13-84CD-44147300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4BB-3318-4483-BB88-49A1014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48B-D296-45C1-BF68-4EB6C500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64D-FD0A-497C-BEAF-0CCFE12E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6BD-F63F-41F9-836C-A5945537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05D-CA28-4037-B0DE-6A9114C2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3B3-BB89-45AA-9438-341B6237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D43-4054-4D1C-A10A-C6BAA5A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986-7E83-4DA3-A511-82167EB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97A-D873-4215-9071-8585DD9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F64-DA83-4D49-9DBC-00B528B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F52-2261-40AB-B07B-C10F840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8FC57-FD5B-4ABA-89CA-EC13AE2E5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