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24049"/>
        <c:axId val="79874979"/>
      </c:barChart>
      <c:catAx>
        <c:axId val="57124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4979"/>
        <c:crosses val="autoZero"/>
        <c:auto val="1"/>
        <c:lblAlgn val="ctr"/>
        <c:lblOffset val="100"/>
        <c:noMultiLvlLbl val="0"/>
      </c:catAx>
      <c:valAx>
        <c:axId val="79874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24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AF9-0CF1-49BA-9B06-1427E75D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FCF-3AAB-4F93-9323-AE3BB54C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995-EDFA-4680-AD96-CCDA7059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4EC-1635-432D-A48A-861871BE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30E-A26D-4D84-BFD5-FC633C8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07C-0621-4EA5-A130-C654616A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7D0-2E84-4B0B-9D55-DE05D331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05A-FAB1-40B0-A758-011831E0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8DE-D0CE-4715-AD42-B8C5F1B0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AEC-DCB1-46DC-A632-96A8E94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0AF-D5CF-4906-A4B8-8AF8C07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171-8AD7-41EE-ADEE-B4988B16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27DC-CF9E-4F09-BF8A-F6325DFD7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