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71435"/>
        <c:axId val="77787102"/>
      </c:barChart>
      <c:catAx>
        <c:axId val="39871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87102"/>
        <c:crosses val="autoZero"/>
        <c:auto val="1"/>
        <c:lblAlgn val="ctr"/>
        <c:lblOffset val="100"/>
        <c:noMultiLvlLbl val="0"/>
      </c:catAx>
      <c:valAx>
        <c:axId val="77787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71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648-BE52-4545-A69C-DC128103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EB8-B36A-48FB-B0D2-C48B2CA2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FEE-A3FC-49F2-8649-26828918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F7D-AA92-4F26-8102-C0F8DF00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FDA-A23D-4A69-94AA-B8917A74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5A2-B641-4839-94DC-EE71EDB0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AB2-05CF-422A-BAD1-493A7F38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883-5FDD-4D03-B4D8-E2B19142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FF0-8817-40EF-8104-FB352EEA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7ED-C6C9-4A60-BC64-6FA69897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401-C2F6-4286-B638-52EE81A6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DC0-50BB-4C76-A16F-CFAEEDE2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BF442-A78F-4FD1-87A2-772B68A28D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