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29160"/>
        <c:axId val="85482893"/>
      </c:barChart>
      <c:catAx>
        <c:axId val="66129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82893"/>
        <c:crosses val="autoZero"/>
        <c:auto val="1"/>
        <c:lblAlgn val="ctr"/>
        <c:lblOffset val="100"/>
        <c:noMultiLvlLbl val="0"/>
      </c:catAx>
      <c:valAx>
        <c:axId val="85482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29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15C-CE7E-4ECA-8A07-146EB45B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092-424A-4D02-8827-29B9CCDE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C2A-19D9-4BE9-A0F4-D0653809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450-14A5-4AE8-B14D-06A55A2D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4F0-DDA1-4F53-B42F-24D32AFE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886-3449-41BC-94E1-D16FBA85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824-84BC-46CC-A0AD-E903D607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E4C-9282-4995-B315-B107F241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CEC-1959-4D32-A814-847858A7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824-E600-4B8A-B0E9-393FEB2D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057-4D23-4052-A04F-B2E8DDCF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2F4-3D45-4FF7-B2CC-FF24DCC5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56342-A106-470A-ABF3-AE5377991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