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092420"/>
        <c:axId val="38066663"/>
      </c:barChart>
      <c:catAx>
        <c:axId val="870924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66663"/>
        <c:crosses val="autoZero"/>
        <c:auto val="1"/>
        <c:lblAlgn val="ctr"/>
        <c:lblOffset val="100"/>
        <c:noMultiLvlLbl val="0"/>
      </c:catAx>
      <c:valAx>
        <c:axId val="380666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924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65EC-9E98-4B52-9467-670731FAF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C1A0-70C9-470F-A107-B3CDCBFA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7E1E-454C-4845-87CD-A8A58BF72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FCA2-19B8-455D-9005-3A0F2BB61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4E11-748D-429B-BFF0-E724A65E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3AE0-CB30-480F-955C-83D6F934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4D1D-7210-4730-A3F8-6C4176E7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B7AC-8ED4-4378-9947-BDFC6A3C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8EE9-023D-4FFD-A876-8194C235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BC87-88E3-4B55-B672-5F4181CE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2A3E-D521-4FD3-8EF3-75EDEF07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2D0B-501D-42D3-9799-D0A42C18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C0F9C-B8E1-41E5-87D3-1D315F0E37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