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55116"/>
        <c:axId val="22444951"/>
      </c:barChart>
      <c:catAx>
        <c:axId val="88955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44951"/>
        <c:crosses val="autoZero"/>
        <c:auto val="1"/>
        <c:lblAlgn val="ctr"/>
        <c:lblOffset val="100"/>
        <c:noMultiLvlLbl val="0"/>
      </c:catAx>
      <c:valAx>
        <c:axId val="22444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55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188-4A96-4021-BC3A-AD562E3D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2B4-8ED2-45C8-A71A-5D7CB89B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577-5A97-4DA9-ADA5-23E3385E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820-E295-4158-BE0B-51C23B2B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686-81B9-4E6E-B5CC-878DE30B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CF2-466D-4CA4-8A7F-2D5C815D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801-4573-4CE2-AB07-86743FA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A21-2C38-4B1D-AAF3-FE904AA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6B3-1AA4-4F7A-8E85-B8F3984E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AF5-3F9C-4235-BF3E-53543DB6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037-A5E0-48D8-9A40-F92B92A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282-38C2-49C2-B7D1-9E01B8F0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71164-7E86-4563-BF72-7129DA7822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