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45177"/>
        <c:axId val="6072920"/>
      </c:barChart>
      <c:catAx>
        <c:axId val="19745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2920"/>
        <c:crosses val="autoZero"/>
        <c:auto val="1"/>
        <c:lblAlgn val="ctr"/>
        <c:lblOffset val="100"/>
        <c:noMultiLvlLbl val="0"/>
      </c:catAx>
      <c:valAx>
        <c:axId val="6072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45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50D-CBBC-4EDF-BD22-2FDDDA5B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D4F-AF2C-4151-82A5-0D7A0B21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490-AB75-45B2-AC82-B781A984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862-0F62-4BCC-A503-7D0B3B83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8CB-FB15-42A6-ADF2-ACB859BA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E3D-6EF8-438D-808C-C7DC9C0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4ED-FBBD-47B9-834F-CD183AA4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616-1F3E-4C0E-B366-502D51A6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452-7E80-44A0-8B05-571F05E7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509-F762-4EB5-BD6D-4270D55E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6D3-5866-4836-A35A-763B77D3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4F2-AE4D-4330-8F4D-B0D831B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7CE37-04A6-47C8-B00B-D1151D0F01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