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4500"/>
        <c:axId val="18185811"/>
      </c:barChart>
      <c:catAx>
        <c:axId val="24374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85811"/>
        <c:crosses val="autoZero"/>
        <c:auto val="1"/>
        <c:lblAlgn val="ctr"/>
        <c:lblOffset val="100"/>
        <c:noMultiLvlLbl val="0"/>
      </c:catAx>
      <c:valAx>
        <c:axId val="18185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4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73A-46FB-4291-8DD1-7BF40C23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F09-78EB-47FF-85D9-CFA76F45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587-A73C-4C74-B553-CD8400A0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28E-4569-4511-8EC0-054E0288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5AF-789D-4294-AC5B-FC3BC638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99D-9FFD-4A28-8F80-86343CD1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B4E-2E00-4BF2-86EB-824BA81D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41A-5319-4264-8B1B-156F8301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CE4-399A-4DA3-9168-290F9304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FF5-FD59-46B3-9CEB-94A86C2A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4DB-98EE-4C97-AAA8-5DA9777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224-CEDA-4223-B8E9-9B4B35F7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24086-1572-4A12-B3E5-6C5012F488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