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42582"/>
        <c:axId val="43516512"/>
      </c:barChart>
      <c:catAx>
        <c:axId val="55425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16512"/>
        <c:crosses val="autoZero"/>
        <c:auto val="1"/>
        <c:lblAlgn val="ctr"/>
        <c:lblOffset val="100"/>
        <c:noMultiLvlLbl val="0"/>
      </c:catAx>
      <c:valAx>
        <c:axId val="435165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25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6064-726C-4BE5-A86E-D2BF25BD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FCF7-3B06-4965-A032-2C31485D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CC68-9851-4A37-B426-16EB5DAD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4164-5C5D-4663-902C-1156A5C7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1AC2-3532-40F8-BDAE-7E5018F7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3F8-ED7C-4203-BFDD-52326712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1AA3-8652-4053-B8CF-C0A3E6E6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E1F2-95D9-46EB-B1B9-7CF4F3E1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A189-183C-4EF8-8AC0-032506F9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8347-DD04-4357-8423-6AAED259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B031-AA69-47E6-9CA2-2F6D238C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C70D-E087-4DF5-BED6-211CDD18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5B393-306F-472C-9635-DFA4F70481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