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00993"/>
        <c:axId val="36657330"/>
      </c:barChart>
      <c:catAx>
        <c:axId val="18700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57330"/>
        <c:crosses val="autoZero"/>
        <c:auto val="1"/>
        <c:lblAlgn val="ctr"/>
        <c:lblOffset val="100"/>
        <c:noMultiLvlLbl val="0"/>
      </c:catAx>
      <c:valAx>
        <c:axId val="366573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00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BD3-FD57-439D-AA1C-895F0B8C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712-2859-4CCF-826C-3F5158DA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FA5-62FF-4361-B504-2C4A8101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DC3-0364-48D6-9A67-8A2D8537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B71-9FB2-405C-996E-D36F2405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F890-69E4-4A1C-B4E7-006943D7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2D8-DF1A-4E7C-98E2-8AEF8191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9C4-80B2-443C-9DDF-751CC34A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F05-EF3E-4438-A18C-E605C5E9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D72-D97D-4979-B1E6-AB2C4AA4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3AE-0E30-426B-B425-0E28A43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747-0EF4-4546-BFF4-EE93239F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7D5E8-EA03-48E8-B0CF-7A1392206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