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3031"/>
        <c:axId val="78296958"/>
      </c:barChart>
      <c:catAx>
        <c:axId val="2413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96958"/>
        <c:crosses val="autoZero"/>
        <c:auto val="1"/>
        <c:lblAlgn val="ctr"/>
        <c:lblOffset val="100"/>
        <c:noMultiLvlLbl val="0"/>
      </c:catAx>
      <c:valAx>
        <c:axId val="78296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3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24E-A048-434A-A5FC-19352EB9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375-E99F-4757-BC4A-2D6B272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C88-1755-4A3B-80EB-6AC28222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E70-947F-4F6C-A20F-31C5A664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F0B-2E31-4EDF-ABF1-A6120555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C68-E987-4B99-8997-CA5F4BF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EF8-D9D5-4CB6-908B-867FEB4B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282-8DCF-46D4-9D0C-E6BB0D6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03B-2DD2-4DF9-A504-72D2882C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53B-24BA-4125-BD01-DDCACD4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AD6-1C51-418A-814E-B5AF39A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5BC-DFF4-44A8-BAD9-6B2EF9B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94628-E064-4305-9FBA-9110AA62A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