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220355"/>
        <c:axId val="96226555"/>
      </c:barChart>
      <c:catAx>
        <c:axId val="40220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26555"/>
        <c:crosses val="autoZero"/>
        <c:auto val="1"/>
        <c:lblAlgn val="ctr"/>
        <c:lblOffset val="100"/>
        <c:noMultiLvlLbl val="0"/>
      </c:catAx>
      <c:valAx>
        <c:axId val="96226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20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435-2C7C-4CE4-AF4C-F80719216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B5E-4EB2-4D48-9DFC-2456E534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3F4-F39B-4D1B-854B-9ABCE7A6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18E-1C08-4E2D-BB21-60A9B8A2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8FD-B2B5-4A57-B551-FDA7AAE5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6F3F-ED2D-466E-9519-E92922E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20E-5765-4C75-AAC1-0B1ED1CC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FED-3D1E-41E7-8936-1EAC1616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CFE-E6D4-4F8A-8ED8-C3C5318C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D33A-51DA-4E40-9CE7-DE36234A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060B-9967-47D4-89CF-EC3F653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B56-8A41-4016-9E04-EB738E7F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D5E09A-FEAA-4A9A-BED4-65C3374EA4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