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86053"/>
        <c:axId val="27340339"/>
      </c:barChart>
      <c:catAx>
        <c:axId val="12686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0339"/>
        <c:crosses val="autoZero"/>
        <c:auto val="1"/>
        <c:lblAlgn val="ctr"/>
        <c:lblOffset val="100"/>
        <c:noMultiLvlLbl val="0"/>
      </c:catAx>
      <c:valAx>
        <c:axId val="27340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6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850-A182-46B5-AF67-383FAFBA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98A-70FB-49E6-B1A3-D7C697A1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E88-1522-4A2D-83DD-FB1A84C2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8FC-7CE2-4A10-AC9B-733624F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62C-C79F-4CCA-AC3E-30DFF9AC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3B1-9934-4A79-A75B-F5945AB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D91-7CE2-4C23-B303-DF8010B7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53B-F679-4BC8-8C22-E5E6257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709-EB68-430A-9885-915BA60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439-1E46-47D9-989B-A52643D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E13-E31A-4F08-8AF2-5C4D48E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B4A-310A-44EC-BE06-ADEE3B8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3357-733C-4286-8DF8-237A3DB4E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