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76178"/>
        <c:axId val="39081075"/>
      </c:barChart>
      <c:catAx>
        <c:axId val="47776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81075"/>
        <c:crosses val="autoZero"/>
        <c:auto val="1"/>
        <c:lblAlgn val="ctr"/>
        <c:lblOffset val="100"/>
        <c:noMultiLvlLbl val="0"/>
      </c:catAx>
      <c:valAx>
        <c:axId val="39081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6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203-D7C3-48EA-9510-373BB332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3EB-DC47-49E4-967F-5C2A28C1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BB5-CD03-431C-B392-8B8C134D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C43-83AC-4CCB-A30F-D51207E8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52C-738B-4110-BD14-6FAFE03C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FE2-A94D-4C0F-AB28-0067DA9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A88-234B-46EF-9B62-4508A73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8D3-51A6-4A92-AFFA-01DC37D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CBC-77DA-4496-8B77-25552CF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D8E-CBBD-4AB5-880C-0F572434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372-B74C-4469-8076-1F8FB8E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0A0-99D5-44BC-AD86-64CF2516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1BDD5-8B6D-41EE-A64E-4E608C13DC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